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2388-96BC-40A7-A6D4-FAF7EEA6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79B-9DF7-41AB-AF92-A32CE9FC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3FB-92E3-4E19-8984-E8804390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771-08D6-4657-9E39-82957774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59C2-DF82-4C19-B19E-A0156400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BCA9-B60A-41F7-B6B5-1F39B267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1ED5-F08D-4A82-9EF2-2B3C0C91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7F6C-0C2B-415C-9875-1C9A6C15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AF85-E71F-4016-9743-D8162AEA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47AF-8120-4A13-8C97-CF0722BC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5380-2C85-4987-86CD-E17BA893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15F-C9B1-4E6D-9BEC-174D9232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2C98-32F5-43AF-A9D6-BCDA8CD3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3334-6E2A-4971-8F88-7D9C85A4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4496-3B5A-48CA-992E-0D911A8B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177A-3E1F-4AF9-B6D3-19DFC1E4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C6F6-B85F-4EF3-AA26-73B21108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404-B9FB-4928-B236-7FCEADD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532D-968D-48AE-9108-CB322610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218-4F53-4D0C-ADD4-4951F1EB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303C-73F6-4E21-BB74-53E583E9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E2B-48FE-4579-AAA3-42CF1A8D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ED0-0A23-45D8-A2B2-1ABA6D97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2CF-09BC-4F2A-8201-DF5C7086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0235-8908-4216-BA39-C1A4AF6A12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F6A3-32C9-49E4-B385-1B0937E5F1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706f6"/>
                </a:solidFill>
                <a:latin typeface="Arial"/>
              </a:rPr>
              <a:t>STATISTICA EDUCATIEI</a:t>
            </a:r>
            <a:endParaRPr b="1" lang="en-US" sz="6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5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CATORI INTERNATIONALI AI STATISTICII EDUCATIEI: instrumente de elaborare si monitorizare a politicil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601992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noiembrie,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A1-A5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Niveluri de instruire a populaţiei (conform ISCED 1-5)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atorul - nivelul de instruire a populatiei adulte ca reflectare a capitalului uma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ivelul de instruire a populatiei adulte  este o masura a rezervelor de “resurse umane”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nostinte, competente si atitudin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atamintul are cel mai important rol in achizitionarea de cunostinte, competente si formare de atitudini necesare pentru partic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ficienta pe piata muncii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societa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Un grad mai înalt de calificare al persoanelor presupune atragerea lor eficientă pe piaţa muncii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59E-72DC-4AA4-845B-08350EE1E1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Rata bruta de cuprindere scolar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O rată brută înaltă de cuprinder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cta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o capacitate adecvată a sistemului naţional de educaţi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O valoare de peste 100% a ratei brute indică faptul că ţară dispu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 capacitatea de a cuprinde toţi copiii din grupa oficială de vârstă în nivelul de educaţi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ectiv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646-A26C-4F34-841E-2A85431B8E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6f6"/>
                </a:solidFill>
                <a:latin typeface="Arial"/>
              </a:rPr>
              <a:t>Rata bruta de cuprindere </a:t>
            </a:r>
            <a:br>
              <a:rPr sz="3200"/>
            </a:br>
            <a:r>
              <a:rPr b="1" lang="en-US" sz="3200" spc="-1" strike="noStrike">
                <a:solidFill>
                  <a:srgbClr val="1706f6"/>
                </a:solidFill>
                <a:latin typeface="Arial"/>
              </a:rPr>
              <a:t>pe niveluri ISCED-97, 2005)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52280" y="990720"/>
          <a:ext cx="876312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90720"/>
                    <a:ext cx="8763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01B-E736-470F-8719-394EECA7B6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706f6"/>
                </a:solidFill>
                <a:latin typeface="Arial"/>
              </a:rPr>
              <a:t>Gradul de cuprindere pe grupe de virste si sexe la inceputul anului scolar 2007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2280" y="1295280"/>
          <a:ext cx="883944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8394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097-D792-43ED-98FF-D02CA9A92F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5438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706f6"/>
                </a:solidFill>
                <a:latin typeface="Arial"/>
              </a:rPr>
              <a:t>Rata bruta de cuprindere la nivel tertiar, 2005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8600" y="1523880"/>
          <a:ext cx="87631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7631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23D-26D9-45EF-B024-7978C4C3AC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A6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Rata </a:t>
            </a: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bruta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de absolvire a învăţământului secundar general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719000"/>
            <a:ext cx="876312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atamintul secundar general - baza pentru obtinerea unui nivel mai inalt de instruire, de pregatire pentru iesirea pe piata muncii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tru iesirea si incadrarea eficienta pe piata muncii este necesar minimum invatamintul secundar gener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nerii care parasec sistemul educational fara acest nivel, se confrunta cu probleme serioase la angajarea in cimpul muncii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954-14B5-4B02-9A9A-235BA69545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A7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Rata de absolvire a învăţămîntului primar, gimnazial, liceal</a:t>
            </a: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orul ofera posibilitatea de a analiza miscarea cohortei de virsta de la o clasa la alta – de la intrare pina la iesire, pe  fiecare nive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oara gradul de acces sau de tranzitie de la  nivelul dat de educatie la unul superi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B42-3349-4426-9DAB-0D6AB61C00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1224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706f6"/>
                </a:solidFill>
                <a:latin typeface="Arial"/>
              </a:rPr>
              <a:t>A8–A9 </a:t>
            </a:r>
            <a:r>
              <a:rPr b="1" lang="ro-RO" sz="3000" spc="-1" strike="noStrike">
                <a:solidFill>
                  <a:srgbClr val="1706f6"/>
                </a:solidFill>
                <a:latin typeface="Arial"/>
              </a:rPr>
              <a:t>Rata de absolvire a invatamintului postsecundar netertiar</a:t>
            </a:r>
            <a:r>
              <a:rPr b="1" lang="en-US" sz="3000" spc="-1" strike="noStrike">
                <a:solidFill>
                  <a:srgbClr val="1706f6"/>
                </a:solidFill>
                <a:latin typeface="Arial"/>
              </a:rPr>
              <a:t>/tertiar</a:t>
            </a:r>
            <a:r>
              <a:rPr b="1" lang="ru-RU" sz="30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timarea numarului populatiei care pentru prima data a atins nivelul invatamintului terti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icator al cunostintelor de nivel inalt pentru  tara data. Tarile cu o rata inalta de absolvire la nivelul tertiar, de regula, sint dezvoltate si dispun de o forta de munca inalt calificat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O rată ridicată de absolvir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eficienţa sistemului de educaţi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mai mare posibilitate de tranziţie în nivelurile superioare de educaţi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Indicatorul este mai relevant dacă este interpretat în complementaritate cu rata abandonului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5BA-D3FE-4B35-91DF-2AF8D12D8D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A10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Procentul femeilor care au obtinut nivelul invatamintului tertiar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Indicatorul reflecta procentul femeil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re au atins nivelul invatamintului tertiar si serveste drept instrument de analiza a accesului dupa criterii de g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95C-2091-46E5-B2C5-E36683D161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A13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Rata de supravieţuire pe clase in invatamintul primar/gimnazial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soara puterea de retinere si eficienta interna a si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duca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ata de 100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un nivel înalt al reţinerii în şcoală şi o incidenţă scăzută a abandonulu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oate varia de la clasă la clasă oferind indicaţii despre acele clase cu un nivel relativ mai mare sau mai mic de aband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Rata de supravieţuire la clasa finală a învăţământului primar este importantă deoarece aceasta este considerată ca cerinţă minimă pentru alfabetiza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442-12E3-4990-81B1-0FF4770DBA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6f6"/>
                </a:solidFill>
                <a:latin typeface="Arial"/>
              </a:rPr>
              <a:t>Consideratii generale </a:t>
            </a:r>
            <a:br>
              <a:rPr sz="3200"/>
            </a:br>
            <a:r>
              <a:rPr b="1" lang="en-US" sz="3200" spc="-1" strike="noStrike">
                <a:solidFill>
                  <a:srgbClr val="1706f6"/>
                </a:solidFill>
                <a:latin typeface="Arial"/>
              </a:rPr>
              <a:t>cu referire la indicatori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ocesul de construire a unui set de indicatori, se porneşte de la obiectivele politicilor educaţionale care trebuie evaluate, fiecare în parte sau glob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abil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 cu exactitate ce anume măsoară fiecare indicator, care este fenomenul, dimensiunea, componenta sistemului de educaţ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stfel de obiective pot viz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creşterea gradului de participare la educaţia preşcolară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creşterea gradului de cuprindere în învăţământul obligatoriu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ficientizarea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cheltuielilor pentru educaţie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creşterea calităţii în învăţământul superior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3E8-2F26-4235-B6D5-8F77FBC2E1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706f6"/>
                </a:solidFill>
                <a:latin typeface="Arial"/>
              </a:rPr>
              <a:t>B1 </a:t>
            </a:r>
            <a:r>
              <a:rPr b="1" lang="ro-RO" sz="3000" spc="-1" strike="noStrike">
                <a:solidFill>
                  <a:srgbClr val="1706f6"/>
                </a:solidFill>
                <a:latin typeface="Arial"/>
              </a:rPr>
              <a:t>Cheltuielile anuale pentru instruirea unui elev/student (conform PPC)</a:t>
            </a:r>
            <a:r>
              <a:rPr b="1" lang="ru-RU" sz="30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atiile internationale ale cheltuililor per elev sint importante pentru evaluarea nivelului investitiilor la diferite niveluri de instruire, determinarea eficientei sistemului de invatamint in ansamblu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cta cheltuielile anuale per elev/student la diferite niveluri de invatamint in conformitate cu PP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A40-8F00-4291-81C9-43F3E63B47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06f6"/>
                </a:solidFill>
                <a:latin typeface="Arial"/>
                <a:ea typeface="Arial"/>
              </a:rPr>
              <a:t>Cheltuili pentru instruirea unui elev, 2005, PPC, USD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600200"/>
          <a:ext cx="830592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3059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DF26-0367-4E05-87A8-530B706A5DE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1920" y="1224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706f6"/>
                </a:solidFill>
                <a:latin typeface="Arial"/>
              </a:rPr>
              <a:t>B2 </a:t>
            </a:r>
            <a:r>
              <a:rPr b="1" lang="ro-RO" sz="3000" spc="-1" strike="noStrike">
                <a:solidFill>
                  <a:srgbClr val="1706f6"/>
                </a:solidFill>
                <a:latin typeface="Arial"/>
              </a:rPr>
              <a:t>Cheltuielile anuale pentru instruirea unui elev/student in raport cu PIB pe locuitor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lumul finantarii invatamintului depinde nu doar de suma cheltuililor, dar si de structura demografica (numarul populatiei scolare), pecum si de nivelul de cuprindere scola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ept indicator serveste raportul cheltuililor in educatie per elev/student fata de marimea PIB pe cap de locu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flectă gradul de prioritate acordat de Guvern finanţării sistemului de educaţie şi formare profesională unui elev. Calculat pe niveluri de educaţie reflectă prioritatea acordată unuia sau altuia dintre acestea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0FD-5D87-4E34-9168-05AEF38C6C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B3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Cheltuielile totale pentru invatamint in raport cu PIB (in %)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op – evaluarea nivelului patrimoniului national investit in educatie si rolul statului si resurselor private in finantarea invatamintulu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bilirea ponderii resurselor financiare investite in educatiei, este politica cheie pe care o adopta statul, agentii economici, elevii si familiile l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eflectă gradul de prioritate acordat de Guvern finanţării sistemului de educaţie şi formare profesională. Calculat pe niveluri de educaţie reflectă prioritatea acordată unuia sau altuia dintre acestea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B3A-A84E-4EC5-A724-39B8847A16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B5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Cheltuielile pentru invatamint din bugetul de stat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nderea cheltuililor din bugetul de stat pentru educatie in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ort cu alte sfere: ocrotirea sanatatii, protectia sociala, ordinea publica si securitatea nationala, fortele armate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ate fi interpreta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ermeni de prioritati stabilite intre diferite functii ale sectorului de st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xprimă costul mediu al educaţiei (pe un elev) având ca sursă de finanţare exclusiv bugetul de sta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D095-1E2A-452C-A262-487672E38E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706f6"/>
                </a:solidFill>
                <a:latin typeface="Arial"/>
              </a:rPr>
              <a:t>Cheltuili pe niveluri de instruire din PIB, </a:t>
            </a:r>
            <a:r>
              <a:rPr b="1" lang="ru-RU" sz="2900" spc="-1" strike="noStrike">
                <a:solidFill>
                  <a:srgbClr val="1706f6"/>
                </a:solidFill>
                <a:latin typeface="Arial"/>
              </a:rPr>
              <a:t>2005</a:t>
            </a:r>
            <a:r>
              <a:rPr b="1" lang="en-US" sz="2900" spc="-1" strike="noStrike">
                <a:solidFill>
                  <a:srgbClr val="1706f6"/>
                </a:solidFill>
                <a:latin typeface="Arial"/>
              </a:rPr>
              <a:t>, in %</a:t>
            </a:r>
            <a:endParaRPr b="1" lang="en-US" sz="2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80880" y="1143000"/>
          <a:ext cx="85345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85345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232-CC5F-4F07-A38F-4E64D56279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B6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Structura cheltuielilor bugetare pentru invatamint pe niveluri ISCED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racterizeaza nivelul sprijinului acordat de buget institutiilor de stat si celo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riva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ele guverne stabilesc un parteneriat cu sectorul privat pentru a satisface cererea crescinda in sectorul educational, sporind rolul acestuia in oferirea serviciilor si finantarea invatamintulu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ept rezultat – bugetul de stat acorda ajutor institutiilor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vate direct sau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n transferari catre elevi/student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3C9-D2CB-4FC9-B671-84CC798D32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706f6"/>
                </a:solidFill>
                <a:latin typeface="Arial"/>
              </a:rPr>
              <a:t>B11 </a:t>
            </a:r>
            <a:r>
              <a:rPr b="1" lang="ro-RO" sz="3000" spc="-1" strike="noStrike">
                <a:solidFill>
                  <a:srgbClr val="1706f6"/>
                </a:solidFill>
                <a:latin typeface="Arial"/>
              </a:rPr>
              <a:t>Structura de finantare a invatamintului dupa niveluri </a:t>
            </a:r>
            <a:r>
              <a:rPr b="1" lang="en-US" sz="3000" spc="-1" strike="noStrike">
                <a:solidFill>
                  <a:srgbClr val="1706f6"/>
                </a:solidFill>
                <a:latin typeface="Arial"/>
              </a:rPr>
              <a:t>de educatie</a:t>
            </a:r>
            <a:r>
              <a:rPr b="1" lang="ru-RU" sz="30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artizarea finantelor pentru educatie pe diferite niveluri, de regula, nu are legatura cu PIB-ul din tar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 este determinata de repartizarea compe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telor si responsabilitatilor intre bugetul de stat, bugetul autoritatior publice loc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zinta interes calcularea bugetului pe niveluri de instrui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B16E-8EB8-4C3B-9DD5-5C846FC0419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61600" y="122400"/>
            <a:ext cx="7327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C1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Speranta de viata scolara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Arial"/>
              </a:rPr>
              <a:t>O valoare mai ridicată a speranţei de viaţă şcolară indică o probabilitate mai mare ca elevii să parcurgă mai mulţi ani de şcoală şi o perioadă de şcolarizare mai mare. Numărul probabil de ani de şcolarizare nu coincide cu numărul teoretic de ani necesari completării unui anumit nivel de învăţământ, cauza fiind repetenţia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dicator complex - caracterizeaza  nivelul de dezvoltare a sistemului de invatami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a in evidenta atit rata de cuprindere a populatiei la toate nivelurile de invatamint, cit si durata instruirii la fiecare ni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A147-067B-411C-8E69-8DF66A11C4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Speranta de viaţă şcolară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52280" y="1676520"/>
          <a:ext cx="876312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76312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462-040F-4D71-ACD4-AB22609562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706f6"/>
                </a:solidFill>
                <a:latin typeface="Arial"/>
              </a:rPr>
              <a:t>Utilitatea indicatorilor în elaborarea, implementarea şi monitrizarea politicilor educaţionale</a:t>
            </a:r>
            <a:r>
              <a:rPr b="1" lang="ru-RU" sz="27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o-RO" sz="1900" spc="-1" strike="noStrike">
                <a:solidFill>
                  <a:srgbClr val="000000"/>
                </a:solidFill>
                <a:latin typeface="Arial"/>
              </a:rPr>
              <a:t>ăspundere public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educatia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folos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e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tot mai multe resurse,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PC, APL -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raportări periodice şi date concrete, exprimate prin indicatori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900" spc="-1" strike="noStrike">
                <a:solidFill>
                  <a:srgbClr val="000000"/>
                </a:solidFill>
                <a:latin typeface="Arial"/>
              </a:rPr>
              <a:t>omparabilitat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 i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n contextul globalizării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integrarii UE, Procesul Bologn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1900" spc="-1" strike="noStrike">
                <a:solidFill>
                  <a:srgbClr val="000000"/>
                </a:solidFill>
                <a:latin typeface="Arial"/>
              </a:rPr>
              <a:t>escentralizare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900" spc="-1" strike="noStrike">
                <a:solidFill>
                  <a:srgbClr val="000000"/>
                </a:solidFill>
                <a:latin typeface="Arial"/>
              </a:rPr>
              <a:t> şi asigurarea calităţii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consecinţă responsabilizarea unităţilor de învăţământ, criterii precise de evaluare şi raportar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900" spc="-1" strike="noStrike">
                <a:solidFill>
                  <a:srgbClr val="000000"/>
                </a:solidFill>
                <a:latin typeface="Arial"/>
              </a:rPr>
              <a:t>bordarea educaţiei într-o viziune integrat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învăţământu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formarea profesional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coeziunea social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 f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olosirea unor bănci de date comprehensive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o-RO" sz="1900" spc="-1" strike="noStrike">
                <a:solidFill>
                  <a:srgbClr val="000000"/>
                </a:solidFill>
                <a:latin typeface="Arial"/>
              </a:rPr>
              <a:t>ifelong learning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ca principiu de bază al politicilor educaţiona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 necesară dezvoltarea şi diversificarea sistemelor de analiz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 dinamicilo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687F-0C62-4DE1-A958-21BD0B0DDF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Speranta de viaţă şcolară</a:t>
            </a:r>
            <a:br>
              <a:rPr sz="3100"/>
            </a:br>
            <a:r>
              <a:rPr b="1" lang="ro-RO" sz="1300" spc="-1" strike="noStrike">
                <a:solidFill>
                  <a:srgbClr val="1706f6"/>
                </a:solidFill>
                <a:latin typeface="Arial"/>
              </a:rPr>
              <a:t>(speranta de viata scolara in conditiile actuale pentru copiii de 5 ani, cu exceptia educatiei copiilor de pina la 5 ani, toate formele de instruire)</a:t>
            </a:r>
            <a:endParaRPr b="1" lang="en-US" sz="13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752480"/>
          <a:ext cx="845820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4582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405-FB9A-49B2-8B9A-740814B1717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C2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Gradul de cuprindere scolara in toate nivelurile de invatamint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O rată brută de cuprindere înaltă indică, în general, un grad ridicat de participare la toate nivelurile de educaţ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bilitatea masurarii accesului la educatie pentru fiecare nivel in t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119-7BA5-4DBE-AF85-289968BB7A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C3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Gradul de cuprindere scolara pe niveluri de instruire (brut si net)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t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rut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cuprindere înaltă indică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un grad ridicat de participare la educaţi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O valoare de 100% arată că sistemul de educaţie a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capacitatea de a şcolariza toată populaţia din grupa de vârstă oficială corespunzătoare nivelelor respective de educaţ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Dacă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icatorul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 depăşeşte 90%, numărul de locuri disponibile este apropiat de numărul cerut pentru a permite accesul universal la educaţie al populaţiei din grupa oficială de vârst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O rată </a:t>
            </a:r>
            <a:r>
              <a:rPr b="1" lang="ro-RO" sz="2100" spc="-1" strike="noStrike">
                <a:solidFill>
                  <a:srgbClr val="000000"/>
                </a:solidFill>
                <a:latin typeface="Arial"/>
              </a:rPr>
              <a:t>netă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de cuprindere înaltă indică un grad ridicat de participare la educaţie a populaţiei de vârstă corespunzătoare nivelului de educaţi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35C-548A-43EC-A226-92749FEAE6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Gradul de cuprindere pe virste</a:t>
            </a: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, 2005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1882800"/>
          <a:ext cx="8740800" cy="44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82800"/>
                    <a:ext cx="8740800" cy="44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ACC-BA22-40D4-AA9E-7BF2DA5FE90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06f6"/>
                </a:solidFill>
                <a:latin typeface="Arial"/>
              </a:rPr>
              <a:t>C5 </a:t>
            </a:r>
            <a:r>
              <a:rPr b="1" lang="ro-RO" sz="3200" spc="-1" strike="noStrike">
                <a:solidFill>
                  <a:srgbClr val="1706f6"/>
                </a:solidFill>
                <a:latin typeface="Arial"/>
              </a:rPr>
              <a:t>Rata de tranzitie</a:t>
            </a:r>
            <a:r>
              <a:rPr b="1" lang="ru-RU" sz="32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O rată înaltă indică un nivel ridicat de acces sau tranziţie de l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 nivel la urmatorul si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pacitatea mare de cuprindere a elevilor î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matorul nivel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uze 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te scăzute de tranziţie: problem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in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trecerea de l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 nivel la urmatorul (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sistemul de examinare; capacitatea de admitere necorespunzătoare a nivelulu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rmator,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cererea redusă de educaţie pentru acest niv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mite identificarea “caderilor” in rata de cuprindere si analiza tranzitiei de la un nivel  la altu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B7E-ABA8-4133-8A3E-1582D8E8BF5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706f6"/>
                </a:solidFill>
                <a:latin typeface="Arial"/>
              </a:rPr>
              <a:t>Repartizarea elevilor din invataminul secundar superior dupa programe de  pregatire profesionala in functie de PIB pe locuitor</a:t>
            </a:r>
            <a:r>
              <a:rPr b="1" lang="en-US" sz="2400" spc="-1" strike="noStrike">
                <a:solidFill>
                  <a:srgbClr val="1706f6"/>
                </a:solidFill>
                <a:latin typeface="Arial"/>
              </a:rPr>
              <a:t>, in USD, PPC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3520" y="1676520"/>
          <a:ext cx="8305560" cy="490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305560" cy="49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E6E-63E2-487E-88DB-9BB0A3AED2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1706f6"/>
                </a:solidFill>
                <a:latin typeface="Arial"/>
              </a:rPr>
              <a:t>Repartizarea elevilor din invataminul secundar superior dupa programe de  pregatire profesionala in functie de PIB pe locuitor</a:t>
            </a:r>
            <a:r>
              <a:rPr b="1" lang="en-US" sz="2400" spc="-1" strike="noStrike">
                <a:solidFill>
                  <a:srgbClr val="1706f6"/>
                </a:solidFill>
                <a:latin typeface="Arial"/>
              </a:rPr>
              <a:t>, in USD, PPC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719360"/>
          <a:ext cx="8229600" cy="4694040"/>
        </p:xfrm>
        <a:graphic>
          <a:graphicData uri="http://schemas.openxmlformats.org/drawingml/2006/table">
            <a:tbl>
              <a:tblPr/>
              <a:tblGrid>
                <a:gridCol w="3397320"/>
                <a:gridCol w="1274760"/>
                <a:gridCol w="1832040"/>
                <a:gridCol w="1725480"/>
              </a:tblGrid>
              <a:tr h="110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PIB 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locuitor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PPC US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ener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io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ublica Moldo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cra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8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a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9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9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eratia R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08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6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38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44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5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9E24-45F9-4810-A08B-8A84260A63E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300" spc="-1" strike="noStrike">
                <a:solidFill>
                  <a:srgbClr val="1706f6"/>
                </a:solidFill>
                <a:latin typeface="Arial"/>
              </a:rPr>
              <a:t>Repartizarea elevilor din invataminul secundar superior dupa programe de pregatire </a:t>
            </a:r>
            <a:br>
              <a:rPr sz="2300"/>
            </a:br>
            <a:r>
              <a:rPr b="1" lang="ro-RO" sz="2300" spc="-1" strike="noStrike">
                <a:solidFill>
                  <a:srgbClr val="1706f6"/>
                </a:solidFill>
                <a:latin typeface="Arial"/>
              </a:rPr>
              <a:t>generala si profesionala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1913040"/>
          <a:ext cx="8610480" cy="479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13040"/>
                    <a:ext cx="861048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871E-BC7B-4066-9B57-133978DC4A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C11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Rata repetentiei in invatamintul secundar general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Rata ideală trebuie să se apropie de 0; o rată ridicată a repetenţiei evidenţiază serioase probleme privind eficienţa internă a sistemului de educaţie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a eficienta interna a sistemului de invatamint si permite prognozarea ratei de tranzitie a elevilor dintr-o clasa in alta in cadru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nei trepte/nivel de invatami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ste caracteristica unuia din indicatorii de eficienta interna a invatamint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E10-7DC4-4C2E-A5EA-BE2AA4EDCD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1706f6"/>
                </a:solidFill>
                <a:latin typeface="Arial"/>
              </a:rPr>
              <a:t>C12 </a:t>
            </a: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Rata abandonului scolar pe niveluri de instruire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Rata ideală a abandonului trebuie să se apropie de 0; o rată ridicată a abandonului evidenţiază serioase probleme privind eficienţa internă a sistemului de educaţi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orul, de rind cu altii, permite efectuarea analizei privind eficienta interna a sistemului educat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DCA-DDDC-48FE-9095-C5BDD52D55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06f6"/>
                </a:solidFill>
                <a:latin typeface="Arial"/>
              </a:rPr>
              <a:t>Structura indicatorilor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A. Rezultat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le sistemului educaţional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B. Resurse financiare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C. Acces, participare si rezultate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000000"/>
                </a:solidFill>
                <a:latin typeface="Arial"/>
              </a:rPr>
              <a:t>D. Condiţii si organizarea invatamintului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A7D-04F7-4DCD-A273-D11BD277A0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706f6"/>
                </a:solidFill>
                <a:latin typeface="Arial"/>
              </a:rPr>
              <a:t>D1 Sarcina didactica (ore auditoriale) in institutii de stat pentru elevii de 9-14 ani</a:t>
            </a:r>
            <a:r>
              <a:rPr b="1" lang="ru-RU" sz="28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p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cularea numarului de ore anuale planificate pentru clasele in care elevii au virsta de 9-14 a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oara timpul de predare in calitate de resursa educationala pentru elevi si indicator al oportunitatilor de invat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ata invatamintului – adica timpul de ore auditoriale – este resursa principala investita in procesul educational si este factorul de baza care asigura succesul scol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0828-CEF2-418B-AEFF-771FB4403FF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706f6"/>
                </a:solidFill>
                <a:latin typeface="Arial"/>
              </a:rPr>
              <a:t>D2 Repartizarea sarcinii didactice pe </a:t>
            </a:r>
            <a:r>
              <a:rPr b="1" lang="en-US" sz="2800" spc="-1" strike="noStrike">
                <a:solidFill>
                  <a:srgbClr val="1706f6"/>
                </a:solidFill>
                <a:latin typeface="Arial"/>
              </a:rPr>
              <a:t>arii curriculare</a:t>
            </a:r>
            <a:r>
              <a:rPr b="1" lang="ro-RO" sz="2800" spc="-1" strike="noStrike">
                <a:solidFill>
                  <a:srgbClr val="1706f6"/>
                </a:solidFill>
                <a:latin typeface="Arial"/>
              </a:rPr>
              <a:t> in institutii de stat pentru elevii de 12-14 ani</a:t>
            </a:r>
            <a:r>
              <a:rPr b="1" lang="ru-RU" sz="2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icatorul caracterizeaza structura planului de invatamint in sensul repartizarii orelor pe arii curriculare, discipline de studiu (sau alte unitati didactice) pentru elevii in varsta de 12-14 ani, ce corespunde invatamintului gimnaz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E44-1D9D-4D12-9E83-D086AA2CAC5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1706f6"/>
                </a:solidFill>
                <a:latin typeface="Arial"/>
              </a:rPr>
              <a:t>D3 Numarul de elevi ce revine la un cadru didactic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Valoarea raportului elevi/profesor nu trebuie să depăşească normele care determină calitatea procesului de instruire</a:t>
            </a:r>
            <a:r>
              <a:rPr b="0" lang="ro-RO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7054-F989-447A-87AA-46896D92DD2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Numarul de elevi ce revine </a:t>
            </a:r>
            <a:br>
              <a:rPr sz="3100"/>
            </a:b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la un cadru didactic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80880" y="1949400"/>
          <a:ext cx="8534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49400"/>
                    <a:ext cx="8534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B61-0375-4C3A-86D3-19AEED556F3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Numarul de elevi ce revine  la un cadru didactic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80880" y="1574640"/>
          <a:ext cx="8458200" cy="493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74640"/>
                    <a:ext cx="8458200" cy="49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CBA-5529-4EC9-B218-A7B9594AC9A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D4 Numarul mediu de elevi in clasa (pe niveluri de instruire)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Indicatorul este o expresie a relaţiei dintre numărul de clase şi numărul de elevi pe ani de studii ş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100" spc="-1" strike="noStrike">
                <a:solidFill>
                  <a:srgbClr val="000000"/>
                </a:solidFill>
                <a:latin typeface="Arial"/>
              </a:rPr>
              <a:t>o expresie a calităţii procesului instructiv-educativ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ele mici sint mai “pretioase” – permit o abordare mai individualizata a instruirii si o calitate mai spori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ele mici conduc la sporirea cheltuililor pentru educati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u intotdeauna rezulta ca in tarile cu numar mediu de elevi in clase redus calitatea educatiei e mai inal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icatorul se foloseste pentru compararea cu normele nationale stabil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798-C98F-4052-A72A-111A3BC49A5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D5 Repartizarea cadrelor didactice pe sexe si virste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Indicatorul caracterizeaza ponderea femeilor in structura corpului didactic si virs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O pondere a cadrelor didactice femei în jurul valorii de 50% indică o distribuţie uniformă pe sexe. O valoare mai mare de 50% relevă o participare superioară a femeilor la activitatea de educaţi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Traditional, ponderea femeilor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 nivel prescolar si primar este inalta si se reduce la nivelurile superior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otodata, ponderea femeilor – cadre didactice – in tarile OECD a crescut datorita unui nivel mai inalt de instruire si cresterii coeficientului de angajare in cimpul muncii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acelasi timp, ponderea mare a femeilor intre cadrele didactice poate reflecta un salariu si statut redus, asociat cu profesiile didactice, sau disfunctii ale pietei muncii – lipsa altor posibilitati decit a “preda”</a:t>
            </a:r>
            <a:r>
              <a:rPr b="0" lang="ro-RO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DF0-C693-4422-8646-767C7FC4D81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1706f6"/>
                </a:solidFill>
                <a:latin typeface="Arial"/>
              </a:rPr>
              <a:t>D6 </a:t>
            </a:r>
            <a:r>
              <a:rPr b="1" lang="en-US" sz="2800" spc="-1" strike="noStrike">
                <a:solidFill>
                  <a:srgbClr val="1706f6"/>
                </a:solidFill>
                <a:latin typeface="Arial"/>
              </a:rPr>
              <a:t>Sarcina didactica a profesorului</a:t>
            </a:r>
            <a:r>
              <a:rPr b="1" lang="ro-RO" sz="2800" spc="-1" strike="noStrike">
                <a:solidFill>
                  <a:srgbClr val="1706f6"/>
                </a:solidFill>
                <a:latin typeface="Arial"/>
              </a:rPr>
              <a:t> intr-un an scolar (ore, saptamini)</a:t>
            </a:r>
            <a:r>
              <a:rPr b="1" lang="ru-RU" sz="28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rcina didactica a profesorului este foarte importanta din punct de vedere al finantarii invatamintului si pentru atractivitatea profesie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cediile de lunga durata, regimul de lucru flexibil si libertatea relativa de a-si stabili orarul de munca au devenit atractive pentru multe femei, chiar daca salariul este mic, in unele tari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icatorul reflecta numarul anual de ore auditoriale (de predare) in conformitate  cu politica oficiala a tarii, care doar partial identifica “incarcarea” de facto si mai mai depinde 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portul elevi/profes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umul orelor de instruire pentru elev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lnSpc>
                <a:spcPct val="90000"/>
              </a:lnSpc>
              <a:spcBef>
                <a:spcPts val="400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lariul cadrelor didact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26C-D545-42BA-B3A6-F203DE366D2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D7 Salariul mediu al cadrului didactic in institutii de stat conform PPC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op – masurarea salariului oficial minim, mediu si maxim al cadrelor didactice pe parcursul activitatii profesionale in functie de numarul orelor “auditoriale”, in USD conform PP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ragerea si mentinerea unui corp didactic calificat este problema tuturor tarilo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ctorii de baza care determina oferta de cadre calificate sint salariul si conditiile de munca – salariul initial, scara de salarizare, costul obtinerii profesiei in comparatie cu alte optiuni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alariul cadrului didactic – cea mai mare componenta a costului educatiei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olumul bugetului destinat educatiei – compormis intre citiva factori  – salariul, numarul de elevi la un cadru didactic, numarul orelor de instruire pentru elevi, sarcina didactica a profesorilo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9806-E2D1-44A4-BDCE-EB47C4A341C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9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200" spc="-1" strike="noStrike">
                <a:solidFill>
                  <a:srgbClr val="000000"/>
                </a:solidFill>
                <a:latin typeface="Arial"/>
              </a:rPr>
              <a:t>Va mulţumim pentru atenţie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820-58F0-4397-98F8-4F79BBEE245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1706f6"/>
                </a:solidFill>
                <a:latin typeface="Arial"/>
              </a:rPr>
              <a:t>A. Rezultatele sistemului educaţional</a:t>
            </a:r>
            <a:r>
              <a:rPr b="1" lang="ru-RU" sz="27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28600" y="838080"/>
          <a:ext cx="8458200" cy="5612040"/>
        </p:xfrm>
        <a:graphic>
          <a:graphicData uri="http://schemas.openxmlformats.org/drawingml/2006/table">
            <a:tbl>
              <a:tblPr/>
              <a:tblGrid>
                <a:gridCol w="900000"/>
                <a:gridCol w="7075440"/>
                <a:gridCol w="482760"/>
              </a:tblGrid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-A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veluri de instruire a populaţiei (conform nivelurilor ISCED 1-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de absolvire a învăţământului secundar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de finisare a învăţămîntului primar, gimnazial, lic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de absolvire a invatamintului postsecundar netert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de absolvire a invatamintului terţ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ntul femeilor care au obtinut nivelul invatamintului tert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ctura absolvenţilor conform programelor invatamintului tertiar dupa domenii ISC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ntul femeilor care au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tinut</a:t>
                      </a: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vatamintul terţiar după domenii ISCED (pe grupe majo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de supravieţuire scolara in invatamintul primar/gimnaz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ariul mediu al populaţiei in funcţie de nivelul instruir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ariul mediu anual al femeilor raportat la salariul mediu al bărbaţilor in funcţie de nivelul de instru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6D5-ECAE-4546-B4A7-349FB7FCE7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B. Resurse financiare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28600" y="990720"/>
          <a:ext cx="8229600" cy="5562360"/>
        </p:xfrm>
        <a:graphic>
          <a:graphicData uri="http://schemas.openxmlformats.org/drawingml/2006/table">
            <a:tbl>
              <a:tblPr/>
              <a:tblGrid>
                <a:gridCol w="876240"/>
                <a:gridCol w="6883560"/>
                <a:gridCol w="46980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ltuielile anuale pentru educaţia unui elev/student (conform P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ltuielile anuale pentru educaţia unui elev/student in raport cu PIB pe locui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ltuielile totale pentru invatamint in raport cu PIB (in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ltuielile bugetului de stat pentru invatamint in raport cu PIB (in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ltuielile pentru invatamint din bugetul de st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ctura cheltuielilor bugetare pentru invatamint pe niveluri ISC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ltuieli bugetare si private pentru invatam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ta subsidiilor bugetare catre sectorul privat din bugetul national si PI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ltuielile gospodariilor casnice si subsidiilor de stat pentru un elev/student in USD echivalent, dupa PP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ltuieli pentru invatamint dupa investit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ctura de finantare a invatamintului dupa nivelurile buget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D4F-B7E5-4732-BC8E-2FE15B410E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C. Acces, participare si rezultate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838080"/>
          <a:ext cx="8077320" cy="5830920"/>
        </p:xfrm>
        <a:graphic>
          <a:graphicData uri="http://schemas.openxmlformats.org/drawingml/2006/table">
            <a:tbl>
              <a:tblPr/>
              <a:tblGrid>
                <a:gridCol w="860400"/>
                <a:gridCol w="6756480"/>
                <a:gridCol w="460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ranţa de viata şcol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de cuprindere şcolara in toate nivelurile de invatam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de cuprindere şcolara pe niveluri de instruire (brut si 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neta de cuprindere şcolara pe vir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de tranziţ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artizarea elevilor in invatamintul secundar general pe trepte si forme de proprie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artizare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udentilor in invatamintul tertiar dupa destinatia programelor, tipul institutiei si forma de instru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artizarea elevilor in invatamintul secundar general (ISCED 3) dupa destinatia si orientare programelor (general, profesion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de cuprindere (brut, net) in invatamintul secundar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de cuprindere in invatamintul terti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repetentiei in invatamintul secundar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ta abandonului scolar pe niveluri de instru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1CD-FE10-4A7E-84F4-8C4B039501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77724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100" spc="-1" strike="noStrike">
                <a:solidFill>
                  <a:srgbClr val="1706f6"/>
                </a:solidFill>
                <a:latin typeface="Arial"/>
              </a:rPr>
              <a:t>D. Conditii si organizarea invatamintului</a:t>
            </a:r>
            <a:r>
              <a:rPr b="1" lang="ru-RU" sz="3100" spc="-1" strike="noStrike">
                <a:solidFill>
                  <a:srgbClr val="1706f6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219320"/>
          <a:ext cx="8610480" cy="5409360"/>
        </p:xfrm>
        <a:graphic>
          <a:graphicData uri="http://schemas.openxmlformats.org/drawingml/2006/table">
            <a:tbl>
              <a:tblPr/>
              <a:tblGrid>
                <a:gridCol w="916200"/>
                <a:gridCol w="7202880"/>
                <a:gridCol w="49140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rcina didactica (ore auditoriale) in institutii de stat pentru elevii de 9-14 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17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artizarea sarcinii didactice pe domenii de instruire din numarul total in institutii de stat pentru elevii de 12-14 a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arul de elevi ce revine la un cadru didactic (institutii de stat si priv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arul mediu de elevi in clasa (pe niveluri de instrui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artizarea cadrelor didactice pe sexe si vir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ul total de munca si ore de predare intr-un an scolar (ore, saptamin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ariul mediu al cadrului didactic in institutii de stat conform PP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D48-02C1-4E7C-9DA3-4411D91489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700" spc="-1" strike="noStrike">
                <a:solidFill>
                  <a:srgbClr val="1706f6"/>
                </a:solidFill>
                <a:latin typeface="Arial"/>
              </a:rPr>
              <a:t>Grupe de ţări dupa nivelul de dezvoltare </a:t>
            </a:r>
            <a:br>
              <a:rPr sz="2700"/>
            </a:br>
            <a:r>
              <a:rPr b="1" lang="ro-RO" sz="2700" spc="-1" strike="noStrike">
                <a:solidFill>
                  <a:srgbClr val="1706f6"/>
                </a:solidFill>
                <a:latin typeface="Arial"/>
              </a:rPr>
              <a:t>(PIB pe cap de locuitor)</a:t>
            </a:r>
            <a:endParaRPr b="1" lang="en-US" sz="27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719360"/>
          <a:ext cx="8229600" cy="4437000"/>
        </p:xfrm>
        <a:graphic>
          <a:graphicData uri="http://schemas.openxmlformats.org/drawingml/2006/table">
            <a:tbl>
              <a:tblPr/>
              <a:tblGrid>
                <a:gridCol w="4199040"/>
                <a:gridCol w="1912680"/>
                <a:gridCol w="2117880"/>
              </a:tblGrid>
              <a:tr h="84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B pe locuitor, US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a I – 47,5 -27,5 mii USD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a 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t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deratia R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a 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laru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cra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ublica Moldo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1C5-9CF3-4680-9D6C-9D51075CFE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hai</cp:lastModifiedBy>
  <dcterms:modified xsi:type="dcterms:W3CDTF">2008-11-20T23:08:56Z</dcterms:modified>
  <cp:revision>69</cp:revision>
  <dc:subject/>
  <dc:title>PowerPoint Presentation</dc:title>
</cp:coreProperties>
</file>