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3ED-FAF4-4626-8B96-682F960C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BBF-2B0F-4F9B-BBA1-A25939A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F42-DA29-4E43-AB62-B4043970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0B7-E17B-428E-A4F5-C6A4E120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4301-D994-41B2-9AC1-DFFDD048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F99-FE47-43F1-A2E9-AE9668EC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2BEB-FF60-4E3A-9951-BF3ACF8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19D-23F2-4A89-B362-1F619CD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D6C-2D92-4788-9A2D-00DFB3A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A862-CA00-4323-87A9-53E45A66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92F2-7429-4391-B6FD-D604665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B30-3A6E-42EE-859C-C228D42A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1227-FF27-447C-AB5A-1DA89E26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85E3-DA06-480B-8EFE-08E4892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D72-1005-49AE-A48A-9AB5528E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89AD-A584-4336-85E9-3CD5AC45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FCEE-8DAF-4540-A84F-2ACCC9A1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27F-D2D5-4624-8F03-3CAF2CA0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C1D-35C0-4C94-9FDC-D028A10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284-087C-441B-95FD-5C1333D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5F5-49C3-46C6-8FD2-9C672AE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9B2-B6EE-4C81-A3BE-C769CE8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58F-21EA-4B94-9936-30A810C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29C-629C-4632-B21F-36D23EB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3B6-F7EB-4941-80F2-922024A62D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5708-5020-4368-B98C-EFD5F283F0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32a"/>
                </a:solidFill>
                <a:latin typeface="Arial Narrow"/>
              </a:rPr>
              <a:t>Круглый стол </a:t>
            </a:r>
            <a:br>
              <a:rPr sz="2400"/>
            </a:br>
            <a:br>
              <a:rPr sz="2000"/>
            </a:br>
            <a:r>
              <a:rPr b="0" lang="ru-RU" sz="2400" spc="-1" strike="noStrike">
                <a:solidFill>
                  <a:srgbClr val="e8e32a"/>
                </a:solidFill>
                <a:latin typeface="Arial Narrow"/>
              </a:rPr>
              <a:t>Статистика образования, возможности использования показателей для разработки и мониторинга  политик в области образования</a:t>
            </a:r>
            <a:r>
              <a:rPr b="0" lang="ru-RU" sz="2400" spc="-1" strike="noStrike">
                <a:solidFill>
                  <a:srgbClr val="e5ffff"/>
                </a:solidFill>
                <a:latin typeface="Arial Narrow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8e32a"/>
                </a:solidFill>
                <a:latin typeface="Arial Narrow"/>
              </a:rPr>
              <a:t>Кишинев, 21  ноября 2008 г.</a:t>
            </a:r>
            <a:r>
              <a:rPr b="0" lang="ru-RU" sz="1800" spc="-1" strike="noStrike">
                <a:solidFill>
                  <a:srgbClr val="e8e32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Международная статистика как инструмент мониторинга и выработки образовательной полит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5661000"/>
            <a:ext cx="5032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Марк Агранович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Руководитель Центра мониторинга и статистики образования, Моск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4149720"/>
            <a:ext cx="7777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8e32a"/>
                </a:solidFill>
                <a:latin typeface="Arial Narrow"/>
              </a:rPr>
              <a:t>Без статистики Вы – просто еще один человек со своим мнени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нципы МСКО-9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e8e32a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 классификации – программы, а не учебные за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e8e32a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ификационные призна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иентация программ (теоретические знания-профессиональные навы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начение программ (продолжение образования – выход на рынок тру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мальные требования для зачисления на програм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програм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аст зачисления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Arial Narrow"/>
              </a:rPr>
              <a:t>Предварительные замечания -3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816120"/>
          <a:ext cx="8964720" cy="6041880"/>
        </p:xfrm>
        <a:graphic>
          <a:graphicData uri="http://schemas.openxmlformats.org/drawingml/2006/table">
            <a:tbl>
              <a:tblPr/>
              <a:tblGrid>
                <a:gridCol w="2428920"/>
                <a:gridCol w="6535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ровни/программы  МС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Эквивалент системе образования Республики Молд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ошкольное 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бязательное дошкольное 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чальное образование 1-4 кл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2 (нижний уровень вторичного образ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Гимназия, 5-9 кл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3 (верхний уровень вторичного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Лицей 10-12 кл (3А)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фессиональный лицей (3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бщеобразовательная школа 10-11 кл. (3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фессиональная школа (5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фессиональное училище (с общ.образованием) 3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фессиональное училище без общего образования (3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ледж на базе 9 кл. 1-2 курс (3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Arial Narrow"/>
              </a:rPr>
              <a:t>Предварительные замечания -3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549360"/>
          <a:ext cx="8964720" cy="6240240"/>
        </p:xfrm>
        <a:graphic>
          <a:graphicData uri="http://schemas.openxmlformats.org/drawingml/2006/table">
            <a:tbl>
              <a:tblPr/>
              <a:tblGrid>
                <a:gridCol w="2952720"/>
                <a:gridCol w="601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ровни/программы  МС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Эквивалент системе образования Республики Молд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фессиональное училище (на базе 11-12 класс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дготовительная программа (на базе 11 кл. общеобразовательной школ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5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Лиценци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астер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5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ледж (на базе 11-12 к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СКО 6 (верхний уровень вторичного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октор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окторат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32a"/>
                </a:solidFill>
                <a:latin typeface="Tahoma"/>
              </a:rPr>
              <a:t>Характеристики образовательных систем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ие в образов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хват образова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должительность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му учат в среднем образов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уктура програ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держание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честв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ходы на 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ъем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носительная велич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Охват образованием -1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907920"/>
          <a:ext cx="8496000" cy="57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8496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788000" y="1413000"/>
            <a:ext cx="3313080" cy="1439640"/>
          </a:xfrm>
          <a:prstGeom prst="wedgeRoundRectCallout">
            <a:avLst>
              <a:gd name="adj1" fmla="val -43773"/>
              <a:gd name="adj2" fmla="val 67972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в каждой возрастной группе большая доля населения учи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Охват образованием -2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981000"/>
          <a:ext cx="8785440" cy="568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7854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Tahoma"/>
              </a:rPr>
              <a:t>Продолжительность обучения-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0" y="903240"/>
          <a:ext cx="8595000" cy="595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903240"/>
                    <a:ext cx="85950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995640" y="1268280"/>
            <a:ext cx="4319640" cy="1584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население учится дольше, причем за счет большего участия на уровне старшей школы и большей продолжительности этой ступ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Tahoma"/>
              </a:rPr>
              <a:t>Продолжительность обучения-2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484280"/>
          <a:ext cx="878544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8785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64000" y="0"/>
            <a:ext cx="3384720" cy="187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дети начинают учиться раньше и заканчивают позже, особенно на стадии обяза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Tahoma"/>
              </a:rPr>
              <a:t>Чему учат в среднем образовании-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1197000"/>
          <a:ext cx="8642160" cy="54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6421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132000" y="907920"/>
            <a:ext cx="4032360" cy="1944720"/>
          </a:xfrm>
          <a:prstGeom prst="wedgeRoundRectCallout">
            <a:avLst>
              <a:gd name="adj1" fmla="val -66694"/>
              <a:gd name="adj2" fmla="val 79467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большая часть молодежи заканчивая школу приобретает и профессиональную подготов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Tahoma"/>
              </a:rPr>
              <a:t>Чему учат в среднем образовании-2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981000"/>
          <a:ext cx="8713800" cy="5877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7138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11280" y="1341360"/>
            <a:ext cx="2952720" cy="1656000"/>
          </a:xfrm>
          <a:prstGeom prst="wedgeRoundRectCallout">
            <a:avLst>
              <a:gd name="adj1" fmla="val 21236"/>
              <a:gd name="adj2" fmla="val 89787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больше внимания уделяется  социальным и гуманитарным наукам и … физ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Arial Narrow"/>
              </a:rPr>
              <a:t>Управление развитием образов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3068640"/>
            <a:ext cx="2879640" cy="10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3933720"/>
            <a:ext cx="165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78936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3860640"/>
            <a:ext cx="20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78936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1916280"/>
            <a:ext cx="2665080" cy="720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работка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484000" y="2349360"/>
            <a:ext cx="57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093080" y="2852640"/>
            <a:ext cx="0" cy="93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2400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2781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692000" y="4292280"/>
            <a:ext cx="431640" cy="576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32720" y="4221000"/>
            <a:ext cx="503280" cy="648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2133720"/>
            <a:ext cx="1584360" cy="647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060640"/>
            <a:ext cx="1800000" cy="720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4869000"/>
            <a:ext cx="460872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циально-экономически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6354720"/>
            <a:ext cx="8280360" cy="503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Монитор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4221000"/>
            <a:ext cx="0" cy="2160720"/>
          </a:xfrm>
          <a:prstGeom prst="line">
            <a:avLst/>
          </a:prstGeom>
          <a:ln w="38160">
            <a:solidFill>
              <a:srgbClr val="e8e32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4149720"/>
            <a:ext cx="0" cy="2160720"/>
          </a:xfrm>
          <a:prstGeom prst="line">
            <a:avLst/>
          </a:prstGeom>
          <a:ln w="38160">
            <a:solidFill>
              <a:srgbClr val="e8e32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532720" y="2420640"/>
            <a:ext cx="0" cy="3887640"/>
          </a:xfrm>
          <a:prstGeom prst="line">
            <a:avLst/>
          </a:prstGeom>
          <a:ln w="38160">
            <a:solidFill>
              <a:srgbClr val="e8e3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2421000"/>
            <a:ext cx="576000" cy="0"/>
          </a:xfrm>
          <a:prstGeom prst="line">
            <a:avLst/>
          </a:prstGeom>
          <a:ln w="38160">
            <a:solidFill>
              <a:srgbClr val="e8e32a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5734080"/>
            <a:ext cx="0" cy="647640"/>
          </a:xfrm>
          <a:prstGeom prst="line">
            <a:avLst/>
          </a:prstGeom>
          <a:ln w="38160">
            <a:solidFill>
              <a:srgbClr val="e8e32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Чему учат в среднем образовании качество образов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9640" y="1197000"/>
          <a:ext cx="8209080" cy="566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97000"/>
                    <a:ext cx="820908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00720" y="1341360"/>
            <a:ext cx="3960720" cy="1513080"/>
          </a:xfrm>
          <a:prstGeom prst="wedgeRoundRectCallout">
            <a:avLst>
              <a:gd name="adj1" fmla="val -29439"/>
              <a:gd name="adj2" fmla="val 81166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Наибольший отрыв учеников развитых стран приходится на математику и умение решать практическ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Tahoma"/>
              </a:rPr>
              <a:t>Финансирование образования – масштаб расходов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32000" y="1844640"/>
            <a:ext cx="2664000" cy="1401840"/>
          </a:xfrm>
          <a:prstGeom prst="wedgeRoundRectCallout">
            <a:avLst>
              <a:gd name="adj1" fmla="val -48689"/>
              <a:gd name="adj2" fmla="val 75592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Расходы на образование в развитых странах существенно вы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Финансирование образования – распределение средст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57280"/>
          <a:ext cx="8642160" cy="54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57280"/>
                    <a:ext cx="86421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0920" y="2421000"/>
            <a:ext cx="2305080" cy="2448000"/>
          </a:xfrm>
          <a:prstGeom prst="wedgeRoundRectCallout">
            <a:avLst>
              <a:gd name="adj1" fmla="val 83194"/>
              <a:gd name="adj2" fmla="val 23541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относительно большая часть средств тратится на среднее обра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Tahoma"/>
              </a:rPr>
              <a:t>Финансирование образования - источник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197000"/>
          <a:ext cx="8713800" cy="566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7138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851280" y="1197000"/>
            <a:ext cx="3672000" cy="1655640"/>
          </a:xfrm>
          <a:prstGeom prst="wedgeRoundRectCallout">
            <a:avLst>
              <a:gd name="adj1" fmla="val -74342"/>
              <a:gd name="adj2" fmla="val 57476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ahoma"/>
              </a:rPr>
              <a:t>В развитых странах государство тратит на образование больше не только абсолютно, но и относи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Чем образование в развитых странах отличается от образования в странах со средним и низким уровнем развития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ие в образов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Население учится дольш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Позже заканчивает обязательное образовани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Среднее образование продолжительн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му учат в среднем образов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Большая часть детей вместе со средним образованием получает  профессиональную подготов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Основное внимание уделяется социальным и гуманитарным дисциплинам, а также физкульт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Ученики средней школы лучше знают математику и чтение и, главное, лучше решают пробл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ходы на 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Относительно большая часть расходов приходится на среднее образова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8e32a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32a"/>
                </a:solidFill>
                <a:latin typeface="Tahoma"/>
              </a:rPr>
              <a:t>Государство не только абсолютно, но относительно больше тратит на образов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32a"/>
                </a:solidFill>
                <a:latin typeface="Arial Narrow"/>
              </a:rPr>
              <a:t>Статистика для выработки политики в области образов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татистика – основной инструмент мониторинга: показатели затрат, результатов, динамика и структура, взаимосвязи, тенденции и прогноз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32a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татистика – ключевой инструмент оц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Особенности образовательных систем как объекта оцен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2700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нение системы и условий ее функционирования, в том числе, внешних требов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утствие эталона, нормат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равнительный анал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еменные ря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жсистемные сопоставительные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700"/>
              </a:spcBef>
              <a:buClr>
                <a:srgbClr val="e8e32a"/>
              </a:buClr>
              <a:buSzPct val="65000"/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нден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700"/>
              </a:spcBef>
              <a:buClr>
                <a:srgbClr val="e8e32a"/>
              </a:buClr>
              <a:buSzPct val="65000"/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уктуры и мод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700"/>
              </a:spcBef>
              <a:buClr>
                <a:srgbClr val="e8e32a"/>
              </a:buClr>
              <a:buSzPct val="65000"/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кло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1341360"/>
            <a:ext cx="4392360" cy="2087640"/>
          </a:xfrm>
          <a:prstGeom prst="wedgeRoundRectCallout">
            <a:avLst>
              <a:gd name="adj1" fmla="val -94092"/>
              <a:gd name="adj2" fmla="val 97300"/>
              <a:gd name="adj3" fmla="val 16667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e32a"/>
                </a:solidFill>
                <a:latin typeface="Tahoma"/>
              </a:rPr>
              <a:t>Реальная и продуктив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8e32a"/>
                </a:solidFill>
                <a:latin typeface="Tahoma"/>
              </a:rPr>
              <a:t>не может строиться без межстрановых сопоставле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32a"/>
                </a:solidFill>
                <a:latin typeface="Tahoma"/>
              </a:rPr>
              <a:t>Образование и социально-экономическое развитие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азование становится важнейшим ресурсом экономического развития, борьбы с бедностью, уменьшения социальной дифференциации и снижения социальной напряж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сделать этот ресурс более действенным там где это нужно сильнее всего – в странах со средним и низким уровнем развит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ы ответить на этот вопрос надо поня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ем образование в бедных странах отличается от образования в богатых странах и на сколько они различ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32a"/>
                </a:solidFill>
                <a:latin typeface="Arial Narrow"/>
              </a:rPr>
              <a:t>Предварительные замечания</a:t>
            </a:r>
            <a:r>
              <a:rPr b="0" lang="en-US" sz="4400" spc="-1" strike="noStrike">
                <a:solidFill>
                  <a:srgbClr val="e8e32a"/>
                </a:solidFill>
                <a:latin typeface="Tahoma"/>
              </a:rPr>
              <a:t> -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ы – участницы международных программ ОЭСР и ЮНЕСКО по статистике образования – 49 стран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ировка стран во подушевому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стандартная классификация образования (МСКО-9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32a"/>
                </a:solidFill>
                <a:latin typeface="Arial Narrow"/>
              </a:rPr>
              <a:t>Предварительные замечания</a:t>
            </a:r>
            <a:r>
              <a:rPr b="0" lang="en-US" sz="4400" spc="-1" strike="noStrike">
                <a:solidFill>
                  <a:srgbClr val="e8e32a"/>
                </a:solidFill>
                <a:latin typeface="Tahoma"/>
              </a:rPr>
              <a:t> -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уппировка стран по уровню 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ны с высоким уровнем экономического развития – 19 стран (подушевой ВВП- свыше 25 тысяч долл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ны с высоким средним уровнем экономического развития – 11 стран (подушевой ВВП - 10-25 тысяч долл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ны со средним и низким уровнем экономического развития – 19 стран (подушевой ВВП – менее 10 тысяч долл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значение МСКО-9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ая стандартная классификация образования (МСКО), разработанная ЮНЕСКО в начале 70-х годов для того, чтобы служить “инструментом, способствующим сбору, компиляции и изложению статистических данных об образовании как по отдельным странам, так и в международном масштабе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8e32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создания и использования МСКО-97 – обеспечение корректности межстрановых сравнений вне зависимости от особенностей национальных образовательных сист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27:06Z</dcterms:created>
  <dc:creator>Mark Agranovitch</dc:creator>
  <dc:description/>
  <dc:language>en-US</dc:language>
  <cp:lastModifiedBy>Utilizator</cp:lastModifiedBy>
  <dcterms:modified xsi:type="dcterms:W3CDTF">2008-11-21T11:44:07Z</dcterms:modified>
  <cp:revision>23</cp:revision>
  <dc:subject/>
  <dc:title>Международная конференция «Глобальная безопасность и «восьмерка»: вызовы и интересы. На пути к Санкт-Петербургскому саммиту» Москва, 20-22 апреля 2006 г. </dc:title>
</cp:coreProperties>
</file>